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media/image4.jpeg" ContentType="image/jpeg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051-B40A-4818-B5DA-48613F75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05A-F6E3-41ED-91AC-E9969494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BF6-CBD0-4DEE-A1AD-1E99446E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7F4-E83A-42C2-A3E0-07C80FD9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EEA5-2CA5-4A11-BA76-B6769CF9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084D-2F7C-450E-B8CF-DB900070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EB6B-0769-4147-B5B9-4094C0B4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A6E4-5D0D-446F-8FCA-0EBADE1A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868F-9933-465A-80A8-160CB26D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A063-81E5-4C75-9098-93F36FA7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258E-D4A8-4BAC-8C5E-207AC525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0943-64F4-408F-9271-8AEC00F5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DCDF-417B-4509-B530-CB7C93BD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73B3-AFB9-4FC3-8340-44E24320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DB8A-A678-4936-8CFF-4B04D4A1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625B-F1D0-4A26-A539-AC7208C5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55F8-F36A-4570-88D7-8DDB1EFB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93F-B7BC-4628-A8D3-80898132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1CF-CE8C-4389-93D1-D609DA7E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32E3-C9A3-4455-9A54-43401C60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427-F4D9-46DE-9917-89B79E4A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73F-AC01-441C-A851-3AC7B7BE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D23-7CCA-47F9-90EE-34A5A40E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76E-E0BB-44EC-B40D-9D8E8355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8917-6C1C-45B5-8FFE-546084D3B6F3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77C0-7633-483D-AFEB-C2FBA7E11ABE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80880" y="144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prains and Bruise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267080"/>
            <a:ext cx="5562720" cy="1524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y Michaela =)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7524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prains!!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sprain is when a joint is suddenly and violently stretched 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most common places to get sprains are wrists, knees, and ankl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1460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80060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Bruises!!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prains and bruises are usually common, non-serious  problem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1828800" cy="1214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800600" y="4724280"/>
            <a:ext cx="1397160" cy="1363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276720" y="3048120"/>
            <a:ext cx="162540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happens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oth sprains and bruises are common and not seriou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en  you get a sprain or a bruise, the skin around it can become swollen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t can be very painful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725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DO I DO!?!?!?!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bruised/sprained part of the body should NOT be used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levate the sprained/bruised part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pply an ice pack for the first twenty four hour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f swelling and pain do not stop, see a docto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2:45:04Z</dcterms:created>
  <dc:creator>Kraybill Campus LMS</dc:creator>
  <dc:description/>
  <dc:language>en-US</dc:language>
  <cp:lastModifiedBy>Kraybill Campus LMS</cp:lastModifiedBy>
  <dcterms:modified xsi:type="dcterms:W3CDTF">2011-05-23T14:39:36Z</dcterms:modified>
  <cp:revision>4</cp:revision>
  <dc:subject/>
  <dc:title>Sprains and Bruises</dc:title>
</cp:coreProperties>
</file>